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20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534-419F-4921-B433-72B1C8D6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E14-D524-44EF-8AB7-5021276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16E-111B-498F-AAD7-8BB4202E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421-26B2-4270-A1A2-253038DC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29C-C732-4642-A223-6E90B2B2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ED3F-F5FB-48BF-AE4E-AFD986A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DB6-2740-4965-A051-06B6D07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61B-2F64-4E86-8ED5-E3FB8D27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4C4-47DA-417E-8B07-BBA847C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EEF-B8F4-4896-A6B8-C5D5480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7B23-9FEF-451E-B646-22162EA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FA6-AAF0-4BCD-A5C1-073F133B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814E-AD57-460D-9F49-D239023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021-5272-4E8E-BB01-7B702F9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CE5E-9848-4601-9A80-A853AA8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94F-CC63-4423-A049-66FD968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D0E7-CB9D-4C51-AE18-452F12D1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5F4C-5805-4181-B2E9-3753BCE8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24E9-140B-48DC-B0CC-0B200092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DCE2-EFD6-446D-B19D-0FABAD00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2CA2-99F3-449A-A927-1F0D100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145C-B050-4B87-AD48-528B31A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5B1-DC9C-4A87-9320-39D1B0F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148A-2454-4918-83F5-E6CFAA6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214C-CA70-432A-9CC5-AEDAD6D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0345-B1DC-48A3-9F70-97424DD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6ED9-DDCA-4459-A9F4-34BB9E9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ACE7-1791-481E-99FD-91E3EADB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11E2-C0DA-4DC7-B3A3-5F0E4C16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F634-E58D-433C-9967-BBC19257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28A6-4EF8-49A8-AAAA-49696A15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15CF-281D-4080-86A5-0E8B35E3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1D19-1FF1-4576-9EF1-815F3DA5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9B1-1BA1-448E-8785-B32E26C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8034-9800-429B-B0EC-BE0BE5E5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276C-6515-45B3-A274-402DE7D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2A6C-AFAC-462C-83D3-29CD4573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500B-165C-4B9E-853A-779CC7C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A77B-8D96-4E2A-8653-C1FCFAD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F817-9D10-4E16-907F-3DE43A7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A965-E23F-4F19-9B11-2352648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3039-E315-448F-9E1E-EB95B4F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5CAC-5C2D-4FB0-9021-DC6FCB5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D7AD-04AE-4A2A-B3DD-CBEC3066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CC-E209-48D1-9054-84FBAD2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1BDF-297E-40B8-93D4-E79AE2F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21952-C357-46FC-AA8F-774D0425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C2BE-8CBC-436B-9030-F232F43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C9CF-21C7-476F-A879-B12D241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231B-86FE-43E8-97D9-0342988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2EB5-D110-47AA-93F8-88FCDD27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370C-E2BA-4754-9192-8D8766E1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BE73-6447-4F9B-804F-D5353F2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CDC5-0994-4F51-B277-AF2CAD9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66F4-5B4F-4EDE-922F-33116CEE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329-3117-4F14-8530-E7F7C27F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3481-6539-4D9E-A6C1-5410F128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CA43-F179-4F96-8370-3797E518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F9DC-40A8-4DA0-B534-7FC343F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BF39-A0E7-4F8C-B85A-E59945A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0605B-009E-401E-AF31-E9C67280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EAB5-3254-475B-92B3-128D6AA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23FE-0E8E-4A89-9C11-BEA6332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634F7-ED56-4CFB-938D-9B1E1A7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2926A-0F55-4DC4-B9D9-797339F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A778-751F-4870-91AF-520FC48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2E-2F36-4601-A454-AF1C4BC5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29B3-86BF-45DE-BD6E-A3AB177D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6320-5C68-4B0D-ADD4-FD98C60D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A40C-0BFD-46DD-BA88-7D6489E7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DA91-B914-4E8B-90D1-36A1BA44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8077-D901-4218-95CE-193B8ED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7D92-68B2-4372-8713-4E090C41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AB71-BC8F-42CB-8F70-8722C84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817A2-24E2-435B-A8BC-0C73789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0464-3E3E-400C-8D44-8CEDF19B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FFD5-6420-4C41-A418-03A54F9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9DF-F648-4E90-8736-BAE48F7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213B-A0EB-4212-9D30-6E5D396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1412-0C13-4CD2-9F31-C53BA4B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FEA5-1B3E-4716-9E78-0C7F55B0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81EE-F97E-4C6F-93B1-03651F47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FC80-C928-440E-BF2C-6E006C80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E45-847A-4B6A-A588-816225B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05D-A4AD-438B-880C-C4BC8BE965CF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B37-FBE4-44DA-A1AF-1037BBCC9A72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53E-34AB-4594-BF72-9BAD707B2967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B26-987D-463E-9692-6E8BAE9DFCE5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833-8EE3-45B4-B518-4202FF99C503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7E9-55F3-4D29-BCC2-606F2863BB90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7C58-F385-47DE-A400-45862D6C7BD1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401760" y="378000"/>
            <a:ext cx="8523000" cy="190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7" name="Picture 4" descr="C:\Users\Adi\Desktop\FRANCE2-Equipe2\logo-france2.jpg"/>
          <p:cNvPicPr/>
          <p:nvPr/>
        </p:nvPicPr>
        <p:blipFill>
          <a:blip r:embed="rId2"/>
          <a:stretch/>
        </p:blipFill>
        <p:spPr>
          <a:xfrm>
            <a:off x="4952880" y="274320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 u="sng">
                <a:solidFill>
                  <a:srgbClr val="000000"/>
                </a:solidFill>
                <a:uFillTx/>
                <a:latin typeface="Calibri"/>
              </a:rPr>
              <a:t>Program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ocumetai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eries et fi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iverti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J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Anima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Picture 4" descr="C:\Users\Adi\Desktop\FRANCE2-Equipe2\documentaire.jpg"/>
          <p:cNvPicPr/>
          <p:nvPr/>
        </p:nvPicPr>
        <p:blipFill>
          <a:blip r:embed="rId1"/>
          <a:stretch/>
        </p:blipFill>
        <p:spPr>
          <a:xfrm>
            <a:off x="3882960" y="755640"/>
            <a:ext cx="2541600" cy="1822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Users\Adi\Desktop\FRANCE2-Equipe2\TVD.jpg"/>
          <p:cNvPicPr/>
          <p:nvPr/>
        </p:nvPicPr>
        <p:blipFill>
          <a:blip r:embed="rId2"/>
          <a:stretch/>
        </p:blipFill>
        <p:spPr>
          <a:xfrm>
            <a:off x="3956040" y="4413240"/>
            <a:ext cx="5200560" cy="2457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Users\Adi\Desktop\FRANCE2-Equipe2\jeux.jpg"/>
          <p:cNvPicPr/>
          <p:nvPr/>
        </p:nvPicPr>
        <p:blipFill>
          <a:blip r:embed="rId3"/>
          <a:stretch/>
        </p:blipFill>
        <p:spPr>
          <a:xfrm>
            <a:off x="-85680" y="4834080"/>
            <a:ext cx="3822480" cy="234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:\Users\Adi\Desktop\FRANCE2-Equipe2\sport.jpg"/>
          <p:cNvPicPr/>
          <p:nvPr/>
        </p:nvPicPr>
        <p:blipFill>
          <a:blip r:embed="rId4"/>
          <a:stretch/>
        </p:blipFill>
        <p:spPr>
          <a:xfrm>
            <a:off x="3882960" y="2584440"/>
            <a:ext cx="2627280" cy="18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:\Users\Adi\Desktop\FRANCE2-Equipe2\animateur.jpg"/>
          <p:cNvPicPr/>
          <p:nvPr/>
        </p:nvPicPr>
        <p:blipFill>
          <a:blip r:embed="rId5"/>
          <a:stretch/>
        </p:blipFill>
        <p:spPr>
          <a:xfrm>
            <a:off x="6400800" y="762120"/>
            <a:ext cx="2743200" cy="373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ulture-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Kanye West rend visite à Occupy Wall Street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Monotype Corsiva"/>
              </a:rPr>
              <a:t>Le rappeur américain a fait une brève apparition lundi 10 octobre auprès des indignés américai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6" descr="C:\Users\Adi\Desktop\FRANCE2-Equipe2\paris mode.jpg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C:\Users\Adi\Desktop\FRANCE2-Equipe2\christian dior.jpg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4617b"/>
                </a:solidFill>
                <a:uFillTx/>
                <a:latin typeface="Monotype Corsiva"/>
              </a:rPr>
              <a:t>Informations  genera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Kanye West est apparu en compagnie de Russell Simmons sur Zuccotti Park, au sud de Manhattan, où des centaines de personnes manifestent pacifiquement depuis plusieurs sema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West, jetsetteur, fana de mode et amateur de grosses chaînes en or, d'apporter son soutien aux manifestants du mouvement contre la finance débridé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Picture 5" descr="C:\Users\Adi\Desktop\FRANCE2-Equipe2\wall st.jpg"/>
          <p:cNvPicPr/>
          <p:nvPr/>
        </p:nvPicPr>
        <p:blipFill>
          <a:blip r:embed="rId1"/>
          <a:stretch/>
        </p:blipFill>
        <p:spPr>
          <a:xfrm>
            <a:off x="152280" y="160020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f0aafc"/>
                </a:solidFill>
                <a:latin typeface="Calibri"/>
              </a:rPr>
              <a:t>O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bfbfbf"/>
                </a:solidFill>
                <a:latin typeface="Calibri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a mod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cor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quotidi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ma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s loisi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C:\Users\Adi\Desktop\FRANCE2-Equipe2\ok ok.jpg"/>
          <p:cNvPicPr/>
          <p:nvPr/>
        </p:nvPicPr>
        <p:blipFill>
          <a:blip r:embed="rId1"/>
          <a:stretch/>
        </p:blipFill>
        <p:spPr>
          <a:xfrm>
            <a:off x="152280" y="4114800"/>
            <a:ext cx="3124440" cy="2590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9" name="Picture 8" descr="C:\Users\Adi\Desktop\FRANCE2-Equipe2\comment ce va bien.jpg"/>
          <p:cNvPicPr/>
          <p:nvPr/>
        </p:nvPicPr>
        <p:blipFill>
          <a:blip r:embed="rId2"/>
          <a:stretch/>
        </p:blipFill>
        <p:spPr>
          <a:xfrm>
            <a:off x="5867280" y="1143000"/>
            <a:ext cx="3276720" cy="571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:\Users\Adi\Desktop\FRANCE2-Equipe2\arton.jpg"/>
          <p:cNvPicPr/>
          <p:nvPr/>
        </p:nvPicPr>
        <p:blipFill>
          <a:blip r:embed="rId3"/>
          <a:stretch/>
        </p:blipFill>
        <p:spPr>
          <a:xfrm>
            <a:off x="3962520" y="411480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ab0c6"/>
                </a:solidFill>
                <a:uFillTx/>
                <a:latin typeface="Calibri"/>
              </a:rPr>
              <a:t>Les glaciers pyrénéens fondent à vue d'oeil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Dans le article il se parle sur le glaciers de Mountage p</a:t>
            </a:r>
            <a:r>
              <a:rPr b="1" lang="fr-FR" sz="2800" spc="-1" strike="noStrike">
                <a:solidFill>
                  <a:srgbClr val="7030a0"/>
                </a:solidFill>
                <a:latin typeface="Constantia"/>
              </a:rPr>
              <a:t>yrénéens </a:t>
            </a:r>
            <a:r>
              <a:rPr b="1" lang="ro-RO" sz="2800" spc="-1" strike="noStrike">
                <a:solidFill>
                  <a:srgbClr val="7030a0"/>
                </a:solidFill>
                <a:latin typeface="Constantia"/>
              </a:rPr>
              <a:t> qui fondent  a cause de </a:t>
            </a: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réchauffement climatique .Les glaciers ont perdu 80%  de leur surface.Pierre Rene voit leur disaparation dans les decennies a v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4" name="Picture 5" descr="C:\Users\Adi\Desktop\FRANCE2-Equipe2\image_70661067.jp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Pour les eleves,un post TV est importante pour leur lecture.Ils peut apprendre de lire et de parler </a:t>
            </a:r>
            <a:r>
              <a:rPr b="0" i="1" lang="ro-RO" sz="4400" spc="-1" strike="noStrike">
                <a:solidFill>
                  <a:srgbClr val="ff0000"/>
                </a:solidFill>
                <a:latin typeface="Monotype Corsiva"/>
              </a:rPr>
              <a:t>plustot </a:t>
            </a: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Francais.Un post TV informe la population avec vrai nouvelles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0000"/>
                </a:solidFill>
                <a:latin typeface="Monotype Corsiva"/>
              </a:rPr>
              <a:t>France en miniatur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Adi\Desktop\FRANCE2-Equipe2\vin.jpg"/>
          <p:cNvPicPr/>
          <p:nvPr/>
        </p:nvPicPr>
        <p:blipFill>
          <a:blip r:embed="rId2"/>
          <a:stretch/>
        </p:blipFill>
        <p:spPr>
          <a:xfrm>
            <a:off x="7126200" y="-6480"/>
            <a:ext cx="202428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Adi\Desktop\FRANCE2-Equipe2\mont blanc.jpg"/>
          <p:cNvPicPr/>
          <p:nvPr/>
        </p:nvPicPr>
        <p:blipFill>
          <a:blip r:embed="rId3"/>
          <a:stretch/>
        </p:blipFill>
        <p:spPr>
          <a:xfrm>
            <a:off x="7400880" y="3733920"/>
            <a:ext cx="174312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1" name="Picture 4" descr="C:\Users\Adi\Desktop\FRANCE2-Equipe2\jjlkj.jpg"/>
          <p:cNvPicPr/>
          <p:nvPr/>
        </p:nvPicPr>
        <p:blipFill>
          <a:blip r:embed="rId4"/>
          <a:stretch/>
        </p:blipFill>
        <p:spPr>
          <a:xfrm>
            <a:off x="1752480" y="5029200"/>
            <a:ext cx="27432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2" name="Picture 5" descr="C:\Users\Adi\Desktop\FRANCE2-Equipe2\jhp.jpg"/>
          <p:cNvPicPr/>
          <p:nvPr/>
        </p:nvPicPr>
        <p:blipFill>
          <a:blip r:embed="rId5"/>
          <a:stretch/>
        </p:blipFill>
        <p:spPr>
          <a:xfrm>
            <a:off x="0" y="4497480"/>
            <a:ext cx="1981080" cy="236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3" name="Picture 6" descr="C:\Users\Adi\Desktop\FRANCE2-Equipe2\index.jpg"/>
          <p:cNvPicPr/>
          <p:nvPr/>
        </p:nvPicPr>
        <p:blipFill>
          <a:blip r:embed="rId6"/>
          <a:stretch/>
        </p:blipFill>
        <p:spPr>
          <a:xfrm>
            <a:off x="0" y="1600200"/>
            <a:ext cx="246708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4" name="Picture 7" descr="C:\Users\Adi\Desktop\FRANCE2-Equipe2\ihjroe'.jpg"/>
          <p:cNvPicPr/>
          <p:nvPr/>
        </p:nvPicPr>
        <p:blipFill>
          <a:blip r:embed="rId7"/>
          <a:stretch/>
        </p:blipFill>
        <p:spPr>
          <a:xfrm>
            <a:off x="4572000" y="5295960"/>
            <a:ext cx="2819520" cy="156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5" name="Picture 8" descr="C:\Users\Adi\Desktop\FRANCE2-Equipe2\harte.jpg"/>
          <p:cNvPicPr/>
          <p:nvPr/>
        </p:nvPicPr>
        <p:blipFill>
          <a:blip r:embed="rId8"/>
          <a:stretch/>
        </p:blipFill>
        <p:spPr>
          <a:xfrm>
            <a:off x="1447920" y="3429000"/>
            <a:ext cx="171108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6" name="Picture 9" descr="C:\Users\Adi\Desktop\FRANCE2-Equipe2\frnaceeee.jpg"/>
          <p:cNvPicPr/>
          <p:nvPr/>
        </p:nvPicPr>
        <p:blipFill>
          <a:blip r:embed="rId9"/>
          <a:stretch/>
        </p:blipFill>
        <p:spPr>
          <a:xfrm>
            <a:off x="3041640" y="3121200"/>
            <a:ext cx="1920960" cy="221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C:\Users\Adi\Desktop\FRANCE2-Equipe2\Franta.jpg"/>
          <p:cNvPicPr/>
          <p:nvPr/>
        </p:nvPicPr>
        <p:blipFill>
          <a:blip r:embed="rId10"/>
          <a:stretch/>
        </p:blipFill>
        <p:spPr>
          <a:xfrm>
            <a:off x="6410160" y="1828800"/>
            <a:ext cx="273384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8" name="Picture 11" descr="C:\Users\Adi\Desktop\FRANCE2-Equipe2\disneyland.jpg"/>
          <p:cNvPicPr/>
          <p:nvPr/>
        </p:nvPicPr>
        <p:blipFill>
          <a:blip r:embed="rId11"/>
          <a:stretch/>
        </p:blipFill>
        <p:spPr>
          <a:xfrm>
            <a:off x="2362320" y="1600200"/>
            <a:ext cx="246672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9" name="Picture 12" descr="C:\Users\Adi\Desktop\FRANCE2-Equipe2\catredala.jpg"/>
          <p:cNvPicPr/>
          <p:nvPr/>
        </p:nvPicPr>
        <p:blipFill>
          <a:blip r:embed="rId12"/>
          <a:stretch/>
        </p:blipFill>
        <p:spPr>
          <a:xfrm>
            <a:off x="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C:\Users\Adi\Desktop\FRANCE2-Equipe2\biblioteque nationale.jpg"/>
          <p:cNvPicPr/>
          <p:nvPr/>
        </p:nvPicPr>
        <p:blipFill>
          <a:blip r:embed="rId13"/>
          <a:stretch/>
        </p:blipFill>
        <p:spPr>
          <a:xfrm>
            <a:off x="4800600" y="1600200"/>
            <a:ext cx="167652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91" name="Picture 14" descr="C:\Users\Adi\Desktop\FRANCE2-Equipe2\AIR FRANCE.jpg"/>
          <p:cNvPicPr/>
          <p:nvPr/>
        </p:nvPicPr>
        <p:blipFill>
          <a:blip r:embed="rId14"/>
          <a:stretch/>
        </p:blipFill>
        <p:spPr>
          <a:xfrm>
            <a:off x="4800600" y="3429000"/>
            <a:ext cx="2619360" cy="196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    </a:t>
            </a: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F</a:t>
            </a:r>
            <a:r>
              <a:rPr b="1" lang="en-US" sz="9600" spc="-1" strike="noStrike">
                <a:solidFill>
                  <a:srgbClr val="bfbfbf"/>
                </a:solidFill>
                <a:latin typeface="Palace Script MT"/>
              </a:rPr>
              <a:t>i</a:t>
            </a:r>
            <a:r>
              <a:rPr b="1" lang="en-US" sz="9600" spc="-1" strike="noStrike">
                <a:solidFill>
                  <a:srgbClr val="ff0000"/>
                </a:solidFill>
                <a:latin typeface="Palace Script MT"/>
              </a:rPr>
              <a:t>n...</a:t>
            </a: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 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3352680" cy="33530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60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5395"/>
                </a:solidFill>
                <a:latin typeface="Palace Script MT"/>
              </a:rPr>
              <a:t>Project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fait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 de 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* </a:t>
            </a: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Chis Denis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*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Ciceuan Simin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*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Balogh Andre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3" descr="C:\Users\Adi\Desktop\FRANCE2-Equipe2\france2 eleves.jpg"/>
          <p:cNvPicPr/>
          <p:nvPr/>
        </p:nvPicPr>
        <p:blipFill>
          <a:blip r:embed="rId1"/>
          <a:stretch/>
        </p:blipFill>
        <p:spPr>
          <a:xfrm>
            <a:off x="3693960" y="590400"/>
            <a:ext cx="4956480" cy="4737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Users\Adi\Desktop\FRANCE2-Equipe2\frnaceeee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</dc:creator>
  <dc:description/>
  <dc:language>en-US</dc:language>
  <cp:lastModifiedBy>Adi</cp:lastModifiedBy>
  <dcterms:modified xsi:type="dcterms:W3CDTF">2011-10-19T20:54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